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3DD-2FAA-49E4-8231-C49E132A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0F6-A596-4740-9FD8-88265B3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6AE-B45D-497C-8431-3DFECC9D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171-3DC0-4354-9558-D8D7CD1C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7DD-60F1-4C2D-A864-6C553D3D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269D-F970-4010-B7AE-CB8F1F7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D2BC-F669-4D9C-B3EC-9A44022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9053-7808-4B71-98A8-25A2619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646-C2FF-40AB-BB7C-4D59F57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61FD-6118-4A9E-A83E-781D6CD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6711-DA31-4C69-955C-DBF58FD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2F4-F161-486B-954C-1C0394FA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F19F-4E57-4D4F-9252-836C0E2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514D-5B51-42FC-ADB4-4EC2061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4BB1-DE26-4CCF-812A-14290AA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C61-A9A4-4FC5-8C06-71685901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B33-7133-4A7F-BCA2-3902E20D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A548-E0C2-402F-BC75-BBEF6F5C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89C5-5A5D-4143-BBCC-D2BB6202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D1D7-6406-46EF-A0DB-50A1D9E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0900-B9AE-4BB3-913E-9C25788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3114-C44C-4017-AF22-0181F35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64D-30A9-4E8E-97B9-DD32A499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9BF4-139D-4D73-A2F0-4BB1D49A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72D2-70D0-4066-8807-D846709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6302-76ED-4868-B909-DFBA3CC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9B8D-6ABC-45AA-913D-3A955EE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6C96-C401-439E-B0E6-68C2021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DF40-5449-4AB3-B631-B2617CBA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A03F-65F4-48D1-8966-7383EA0E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4816-40A9-4CCC-8C14-E6A1C754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D7E1-B7BC-4900-89FD-BF2B616D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30FD-A00B-47BA-8E12-9B3975F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C55-1862-4580-A4EE-4527CBF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A24A-1F70-4C98-9E33-C860896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B822-1195-40FF-A587-101F701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0F66-C791-415E-A602-8F2E6D0B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4076-77FA-446B-8D17-25EA857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22BF-B314-4BC9-AE44-CD9C832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9264-056A-4818-8DDA-7ACC325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DAEA-7120-4D47-932E-24E3DAB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48F0-C664-497E-81CC-68B1B89E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AEEA-352A-469C-9EC6-217F021C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887-70F6-46AE-B448-9C6E24EA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F29-E1EB-44D4-878A-F675627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468-ECE3-4DB5-A465-F5DF4EB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5F8-60E4-4EEF-B1FA-629C21C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3D1-8784-46FF-A933-891B6A3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E351-3C21-4979-A237-87843732D0A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10B-7D48-4D4D-8C27-D92F1EAD6B0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596-C24E-4136-8EBF-BFE520101CD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DC3-2920-4BEE-BA87-29E7AA9DDCB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арт 2012г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822240" y="566640"/>
            <a:ext cx="7346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908000" y="1206360"/>
            <a:ext cx="6407280" cy="2487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476000" y="371592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735d"/>
                </a:solidFill>
                <a:latin typeface="Trebuchet MS"/>
              </a:rPr>
              <a:t>Заняла  1-ое место  в конкурсе «Алло, мы ищем таланты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735d"/>
                </a:solidFill>
                <a:latin typeface="Trebuchet MS"/>
              </a:rPr>
              <a:t>Принимала участие в концерте посвященному 8 мар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735d"/>
                </a:solidFill>
                <a:latin typeface="Trebuchet MS"/>
              </a:rPr>
              <a:t>Участвовала в проведении районного мероприятия «ИМПУЛЬС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C:\Program Files\Microsoft Office\MEDIA\CAGCAT10\j0216516.wmf"/>
          <p:cNvPicPr/>
          <p:nvPr/>
        </p:nvPicPr>
        <p:blipFill>
          <a:blip r:embed="rId2"/>
          <a:stretch/>
        </p:blipFill>
        <p:spPr>
          <a:xfrm>
            <a:off x="1619280" y="907920"/>
            <a:ext cx="20890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736640" y="695160"/>
            <a:ext cx="6168960" cy="1170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258560" y="2492280"/>
            <a:ext cx="5970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       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День рождение Татьяны 4 января 1995 г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       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Таня любит танцевать, играть в теннис,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обожает животны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В школе Таня учится на 4 и 5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Шестиугольник 3"/>
          <p:cNvSpPr/>
          <p:nvPr/>
        </p:nvSpPr>
        <p:spPr>
          <a:xfrm>
            <a:off x="1392120" y="2924280"/>
            <a:ext cx="530280" cy="576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Шестиугольник 4"/>
          <p:cNvSpPr/>
          <p:nvPr/>
        </p:nvSpPr>
        <p:spPr>
          <a:xfrm>
            <a:off x="1392120" y="4149720"/>
            <a:ext cx="530280" cy="5745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Шестиугольник 5"/>
          <p:cNvSpPr/>
          <p:nvPr/>
        </p:nvSpPr>
        <p:spPr>
          <a:xfrm>
            <a:off x="1392120" y="5373720"/>
            <a:ext cx="530280" cy="576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77680" y="1011240"/>
            <a:ext cx="3693960" cy="21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8252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Trebuchet MS"/>
              </a:rPr>
              <a:t>Воспитанницей месяца стала Матросова Таня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26840" y="4463640"/>
            <a:ext cx="6383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Поздравляем Татьяну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5002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0:18:51Z</dcterms:created>
  <dc:creator>Ученик4</dc:creator>
  <dc:description/>
  <dc:language>en-US</dc:language>
  <cp:lastModifiedBy>Ученик4</cp:lastModifiedBy>
  <dcterms:modified xsi:type="dcterms:W3CDTF">2012-04-19T16:58:23Z</dcterms:modified>
  <cp:revision>7</cp:revision>
  <dc:subject/>
  <dc:title>Матросова Таня. Воспитанница месяца. Клуба современного танца.</dc:title>
</cp:coreProperties>
</file>