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easy03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2B91-5CF0-48A3-82C3-00D6B717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40B2-F5ED-4F81-947F-2973279C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C2B1-1216-4CA6-A7FF-B90271FB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750C-5C20-4492-9F60-2191B05D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E148-BF46-4455-8D5E-388B4B87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A3D4-12B6-4787-AC75-F0AD9DFA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0C75-D9D9-4F89-A269-F33BB741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0DC9-EB0A-4886-AE47-A20FAF4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E9AF-763A-4849-B976-754ACE43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C9C5-5D83-4393-8C41-F46A2055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5DD4-514A-4CB2-9BB7-590E2C92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5BFC-EC37-4A42-BA69-26E970BC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8572-9A5E-4A90-B98D-03B1F80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E479-E49E-4A86-91EC-4BE86E5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B8B-7986-4893-A24B-7EF99AE1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E06B-8903-4CEE-9E5B-DC850D92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C13A-E5AA-447A-B176-27DA8BAE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05F5-84B2-4555-97CC-CF6918C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40DB-DF1B-4BB6-BA7B-5BECEA96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8595-4F4E-40D3-94CF-95AD514D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4BE0-6DE6-4564-87C2-DCD1F1CE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B0B4-8130-4D17-8DBE-4B689E2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7F23-7252-4E36-A02D-402F9FC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2687-6583-43F9-AC36-CB04CC2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10DD-B691-4B7D-B753-57F7627D87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808C-1C4E-414B-8CC8-62872100C1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asy03.wav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asy03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asy03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asy03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easy03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asy0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asy03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1c1c"/>
                </a:solidFill>
                <a:latin typeface="Tahoma"/>
              </a:rPr>
              <a:t>КЛУБ  СОВРЕМЕННОГО  ТАНЦ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СТАРШАЯ ГРУПП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ahoma"/>
              </a:rPr>
              <a:t>«</a:t>
            </a:r>
            <a:r>
              <a:rPr b="1" i="1" lang="en-US" sz="2800" spc="-1" strike="noStrike">
                <a:solidFill>
                  <a:srgbClr val="6600ff"/>
                </a:solidFill>
                <a:latin typeface="Tahoma"/>
              </a:rPr>
              <a:t>VIP-DANC</a:t>
            </a:r>
            <a:r>
              <a:rPr b="1" i="1" lang="ru-RU" sz="2800" spc="-1" strike="noStrike">
                <a:solidFill>
                  <a:srgbClr val="6600ff"/>
                </a:solidFill>
                <a:latin typeface="Tahom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00680" y="2666880"/>
            <a:ext cx="114300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ll dir="d"/>
    <p:sndAc>
      <p:stSnd>
        <p:snd r:embed="rId2" name="easy0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Мы любим:</a:t>
            </a:r>
            <a:br>
              <a:rPr sz="3800"/>
            </a:b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- танцы;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- музыку;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-движения;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- рит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Мы изучаем несколько видов танце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ahoma"/>
              </a:rPr>
              <a:t>- восточ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-диск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-фан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aa68"/>
                </a:solidFill>
                <a:latin typeface="Tahoma"/>
              </a:rPr>
              <a:t>-хип-хо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 эстрад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12000" y="3645000"/>
            <a:ext cx="1190520" cy="1428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ll dir="d"/>
    <p:sndAc>
      <p:stSnd>
        <p:snd r:embed="rId2" name="easy03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00"/>
                </a:solidFill>
                <a:latin typeface="Tahoma"/>
              </a:rPr>
              <a:t>Наши  выступления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Концерт посвященный «Дню матер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Праздник «Рождественские вечер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Концерт посвященный «Дню звщитников отечеств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Tahoma"/>
              </a:rPr>
              <a:t>Масленни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Tahoma"/>
              </a:rPr>
              <a:t>Праздник «Весны и труд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Концерт посвященный «Дню защиты дете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d"/>
    <p:sndAc>
      <p:stSnd>
        <p:snd r:embed="rId1" name="easy03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ВАЖНЫЕ СОБЫТ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ризеры городского конкурса «Алло, мы ищем таланты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Tahoma"/>
              </a:rPr>
              <a:t>Награждены дипломом. За активное участие в 10-ом межрегиональном фестивале танцевальных коллектив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2-ое место в районном фестивале «Ритмы нашего времен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d"/>
    <p:sndAc>
      <p:stSnd>
        <p:snd r:embed="rId1" name="easy03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ahoma"/>
              </a:rPr>
              <a:t>Занятия современными  танцами –э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ahoma"/>
              </a:rPr>
              <a:t>не какой-то определенный стиль, скорее это множество различных видов танцев объединенных одним направлени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3095640" cy="191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ll dir="d"/>
    <p:sndAc>
      <p:stSnd>
        <p:snd r:embed="rId3" name="easy03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48000" y="1862280"/>
            <a:ext cx="4248000" cy="313344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ll dir="d"/>
    <p:sndAc>
      <p:stSnd>
        <p:snd r:embed="rId2" name="easy03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0808"/>
                </a:solidFill>
                <a:latin typeface="Tahoma"/>
              </a:rPr>
              <a:t>ВСЕХ  ЖЕЛАЮЩИХ  КТО  ЛЮБИТ  ТАНЦЕВАТЬ, ПРИХОДИТЕ  К  НАМ  В  КЛУБ СОВРЕМЕННОГО  ТАНЦ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d"/>
    <p:sndAc>
      <p:stSnd>
        <p:snd r:embed="rId1" name="easy03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08:57:17Z</dcterms:created>
  <dc:creator>Александр</dc:creator>
  <dc:description/>
  <dc:language>en-US</dc:language>
  <cp:lastModifiedBy>Александр</cp:lastModifiedBy>
  <dcterms:modified xsi:type="dcterms:W3CDTF">2012-04-08T11:21:58Z</dcterms:modified>
  <cp:revision>7</cp:revision>
  <dc:subject/>
  <dc:title>КЛУБ  СОВРЕМЕННОГО  ТАНЦА</dc:title>
</cp:coreProperties>
</file>