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60BC-4AD8-4463-81AE-7D7F3D38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B22DD-7008-4927-AAF5-B2F9301D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CCA7E-3232-4389-8AC7-BB8664CB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FD9B1-514D-462C-BB67-02444499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5385-5D61-4189-92AC-84A81E0B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4337-3011-4BDD-8D8D-761A9DFE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581C-32BF-416D-A6F1-6B612B5A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4A1E-ECDE-4D6F-B83B-F9B12DB4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4069-DFA0-4DEA-9FD4-AA051B98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8925-4BFA-4EA1-9077-8638B574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F76B-2EE7-46FB-A0A3-8C029EA3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8C9C-5F1F-4F66-9302-4AD453E7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EA83-5A32-49AF-9048-58941887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FB72-071A-43E4-83AD-BD088445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9DDA-92CB-45D6-B925-944E6F25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D57F-6921-42F9-A445-6C886E63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BFF0-0B94-4035-9BDB-67563A7B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D840-F90B-4418-86DC-6C5E774F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B2704-3964-4860-818D-B8B9D0EB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B8C4-0AE6-40E5-B48C-038690DA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5548-BF48-4D34-BAD2-40BDEA63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CEB5D-1680-41A2-BA39-80E0A1A3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109B-0731-4FD6-BA84-DC04E1B5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0678-EE6A-40C5-9575-ADF384A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5C99-CD93-4FDB-B6CC-1B9CB6F5F1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F709-9FC5-43C5-9EE4-90A22B8AC6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371600" y="990720"/>
            <a:ext cx="7086600" cy="47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Никонова Ирина Александровн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ЦДО «Клуб современного танца»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озраст детей: 7-14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 advTm="3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альние ц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2133720"/>
            <a:ext cx="6858000" cy="2666880"/>
          </a:xfrm>
          <a:prstGeom prst="wedgeRoundRectCallout">
            <a:avLst>
              <a:gd name="adj1" fmla="val -44444"/>
              <a:gd name="adj2" fmla="val 52856"/>
              <a:gd name="adj3" fmla="val 16667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ствовать формированию танцевально-ритмических умений, художественно-эстетических способностей воспитан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лижние ц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вать художественно-эстетический вк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вать танцевальные и артистические способ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вать музыкальный язык, пользоваться им для самовы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рудности и реш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руд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лективный способ об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бота с родител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зультаты мониторин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е 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местные меропри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ализы работы за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едагогические методы и за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знакомление и освоение разных видов та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учать необходимым танцевально-двигательным навы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комство с различными направлениями, историей и географией та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Вести с мест. Танцуйте вместе с нам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нец – это жизнь, в нем движение, красота и пластика, в нем молодость, ритм и свобода. Мы в нем живем. Мы – это девчата танцевальной группы центра дополнительного образования города Курлова. В нашем репертуаре – танцы разных современных молодежных направлений. 22 марта в поселке Великодворье встретились танец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итм, задор. В этот день состоялся фестиваль современного танца «Ритмы современного танц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62320" y="3886200"/>
            <a:ext cx="4647960" cy="21304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600200"/>
            <a:ext cx="6477120" cy="4038480"/>
          </a:xfrm>
          <a:prstGeom prst="flowChartPunchedTap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520" y="2514240"/>
            <a:ext cx="5486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Фортепиа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Интерн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Помощь и поддержка - педагог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cover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-граф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3399"/>
                </a:solidFill>
                <a:uFillTx/>
                <a:latin typeface="Arial"/>
              </a:rPr>
              <a:t>Апр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00"/>
                </a:solidFill>
                <a:latin typeface="Arial"/>
              </a:rPr>
              <a:t>20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ыступление на конкурсе «Учитель год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00"/>
                </a:solidFill>
                <a:latin typeface="Arial"/>
              </a:rPr>
              <a:t>21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Конкурс «Алло, мы ищем талант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3399"/>
                </a:solidFill>
                <a:uFillTx/>
                <a:latin typeface="Arial"/>
              </a:rPr>
              <a:t>М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00"/>
                </a:solidFill>
                <a:latin typeface="Arial"/>
              </a:rPr>
              <a:t>6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ыезд на Никитинское п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00"/>
                </a:solidFill>
                <a:latin typeface="Arial"/>
              </a:rPr>
              <a:t>20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Конференция «Импульс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3399"/>
                </a:solidFill>
                <a:uFillTx/>
                <a:latin typeface="Arial"/>
              </a:rPr>
              <a:t>Ию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День защиты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00"/>
                </a:solidFill>
                <a:latin typeface="Arial"/>
              </a:rPr>
              <a:t>25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ыступление на выпускном ба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cover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1:40:46Z</dcterms:created>
  <dc:creator>Александр</dc:creator>
  <dc:description/>
  <dc:language>en-US</dc:language>
  <cp:lastModifiedBy>Александр</cp:lastModifiedBy>
  <dcterms:modified xsi:type="dcterms:W3CDTF">2012-04-18T12:36:0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